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75212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14828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44440" y="3816720"/>
            <a:ext cx="2281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752120" y="7632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3440" y="3816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52120" y="3816720"/>
            <a:ext cx="7086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3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67000" y="434340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2560" y="6588000"/>
            <a:ext cx="24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Copyright 2008 The McGraw-Hill Compan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95480" y="6553080"/>
            <a:ext cx="50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-</a:t>
            </a:r>
            <a:fld id="{01CDFA27-10A7-4F8B-A8E3-3F1F5D1F09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14800" y="1371600"/>
            <a:ext cx="5029200" cy="5486400"/>
            <a:chOff x="4114800" y="1371600"/>
            <a:chExt cx="5029200" cy="5486400"/>
          </a:xfrm>
        </p:grpSpPr>
        <p:sp>
          <p:nvSpPr>
            <p:cNvPr id="7" name=""/>
            <p:cNvSpPr/>
            <p:nvPr/>
          </p:nvSpPr>
          <p:spPr>
            <a:xfrm>
              <a:off x="4267080" y="6629400"/>
              <a:ext cx="48769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5400" y="1523880"/>
              <a:ext cx="0" cy="5334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6705720"/>
              <a:ext cx="50292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1720" y="1371600"/>
              <a:ext cx="0" cy="54864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219320" y="6858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52280" y="74520"/>
            <a:ext cx="1447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" name=""/>
          <p:cNvSpPr/>
          <p:nvPr/>
        </p:nvSpPr>
        <p:spPr>
          <a:xfrm>
            <a:off x="76320" y="1171440"/>
            <a:ext cx="15462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ividual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erminants of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ividual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erminants of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ket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vernment-Set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7" action="ppaction://hlinksldjump"/>
          </p:cNvPr>
          <p:cNvSpPr/>
          <p:nvPr/>
        </p:nvSpPr>
        <p:spPr>
          <a:xfrm>
            <a:off x="24480" y="56530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e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endshow"/>
          </p:cNvPr>
          <p:cNvSpPr/>
          <p:nvPr/>
        </p:nvSpPr>
        <p:spPr>
          <a:xfrm>
            <a:off x="28080" y="6111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55627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64771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52280" y="6019920"/>
            <a:ext cx="137160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9907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rId8" action="ppaction://hlinksldjump"/>
          </p:cNvPr>
          <p:cNvSpPr/>
          <p:nvPr/>
        </p:nvSpPr>
        <p:spPr>
          <a:xfrm>
            <a:off x="9907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17880" y="304920"/>
            <a:ext cx="117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660033"/>
                </a:solidFill>
                <a:latin typeface="Times New Roman"/>
              </a:rPr>
              <a:t>3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3556080"/>
            <a:ext cx="65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and, Supply, and Market Equilibr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572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60" r="1669" b="0"/>
          <a:stretch/>
        </p:blipFill>
        <p:spPr>
          <a:xfrm>
            <a:off x="5072040" y="328680"/>
            <a:ext cx="2997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quilibrium Price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quilibrium Quantity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urplus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ortage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Rationing Function of Prices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8199360" y="1068480"/>
            <a:ext cx="436680" cy="729000"/>
            <a:chOff x="8199360" y="1068480"/>
            <a:chExt cx="436680" cy="729000"/>
          </a:xfrm>
        </p:grpSpPr>
        <p:sp>
          <p:nvSpPr>
            <p:cNvPr id="393" name=""/>
            <p:cNvSpPr/>
            <p:nvPr/>
          </p:nvSpPr>
          <p:spPr>
            <a:xfrm>
              <a:off x="8202960" y="14904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8199360" y="106848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025960" y="3873600"/>
            <a:ext cx="0" cy="1849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419640" y="2033640"/>
            <a:ext cx="4123440" cy="3709800"/>
            <a:chOff x="3419640" y="2033640"/>
            <a:chExt cx="4123440" cy="3709800"/>
          </a:xfrm>
        </p:grpSpPr>
        <p:grpSp>
          <p:nvGrpSpPr>
            <p:cNvPr id="397" name=""/>
            <p:cNvGrpSpPr/>
            <p:nvPr/>
          </p:nvGrpSpPr>
          <p:grpSpPr>
            <a:xfrm>
              <a:off x="3425040" y="2047320"/>
              <a:ext cx="4118040" cy="3684240"/>
              <a:chOff x="3425040" y="2047320"/>
              <a:chExt cx="4118040" cy="36842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3425040" y="2047320"/>
                <a:ext cx="4118040" cy="3060360"/>
                <a:chOff x="3425040" y="2047320"/>
                <a:chExt cx="4118040" cy="30603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439800" y="2047320"/>
                  <a:ext cx="410328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436920" y="264564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434040" y="326124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30800" y="38764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27920" y="44920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425040" y="510768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877200" y="2048400"/>
                <a:ext cx="3652920" cy="3683160"/>
                <a:chOff x="3877200" y="2048400"/>
                <a:chExt cx="3652920" cy="3683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8772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33008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795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477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995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151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9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5301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0614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3419640" y="2033640"/>
              <a:ext cx="4119840" cy="3709800"/>
              <a:chOff x="3419640" y="2033640"/>
              <a:chExt cx="4119840" cy="3709800"/>
            </a:xfrm>
          </p:grpSpPr>
          <p:sp>
            <p:nvSpPr>
              <p:cNvPr id="416" name=""/>
              <p:cNvSpPr/>
              <p:nvPr/>
            </p:nvSpPr>
            <p:spPr>
              <a:xfrm>
                <a:off x="342828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19640" y="5726520"/>
                <a:ext cx="411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 flipH="1">
            <a:off x="3441240" y="3882960"/>
            <a:ext cx="1592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48240" y="2651040"/>
            <a:ext cx="2516040" cy="2444760"/>
          </a:xfrm>
          <a:custGeom>
            <a:avLst/>
            <a:gdLst/>
            <a:ahLst/>
            <a:rect l="l" t="t" r="r" b="b"/>
            <a:pathLst>
              <a:path w="1585" h="1540">
                <a:moveTo>
                  <a:pt x="0" y="1540"/>
                </a:moveTo>
                <a:cubicBezTo>
                  <a:pt x="143" y="1416"/>
                  <a:pt x="286" y="1292"/>
                  <a:pt x="433" y="1165"/>
                </a:cubicBezTo>
                <a:cubicBezTo>
                  <a:pt x="580" y="1038"/>
                  <a:pt x="737" y="908"/>
                  <a:pt x="880" y="776"/>
                </a:cubicBezTo>
                <a:cubicBezTo>
                  <a:pt x="1023" y="644"/>
                  <a:pt x="1177" y="504"/>
                  <a:pt x="1294" y="375"/>
                </a:cubicBezTo>
                <a:cubicBezTo>
                  <a:pt x="1411" y="246"/>
                  <a:pt x="1498" y="123"/>
                  <a:pt x="1585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21840" y="1844640"/>
            <a:ext cx="39384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921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7960" y="590400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hels of Corn (thousand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21211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0520" y="25671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51240" y="3171960"/>
            <a:ext cx="16524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50000" y="3797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579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85080" y="5021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14920" y="31734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70680" y="256068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75160" y="50212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57720" y="441468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711440" y="2468520"/>
            <a:ext cx="1006200" cy="2732040"/>
            <a:chOff x="1711440" y="2468520"/>
            <a:chExt cx="1006200" cy="2732040"/>
          </a:xfrm>
        </p:grpSpPr>
        <p:sp>
          <p:nvSpPr>
            <p:cNvPr id="436" name=""/>
            <p:cNvSpPr/>
            <p:nvPr/>
          </p:nvSpPr>
          <p:spPr>
            <a:xfrm>
              <a:off x="1711440" y="2768760"/>
              <a:ext cx="100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4360" y="246852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795680" y="2381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360" y="2381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22240" y="2763720"/>
            <a:ext cx="406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56040" y="2763720"/>
            <a:ext cx="8010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27200" y="1568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00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674120" y="2468520"/>
            <a:ext cx="1006200" cy="2732040"/>
            <a:chOff x="7674120" y="2468520"/>
            <a:chExt cx="1006200" cy="2732040"/>
          </a:xfrm>
        </p:grpSpPr>
        <p:sp>
          <p:nvSpPr>
            <p:cNvPr id="444" name=""/>
            <p:cNvSpPr/>
            <p:nvPr/>
          </p:nvSpPr>
          <p:spPr>
            <a:xfrm>
              <a:off x="7674120" y="2768760"/>
              <a:ext cx="100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77040" y="246852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758360" y="2381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47960" y="2381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84920" y="2763720"/>
            <a:ext cx="406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8080" y="2763720"/>
            <a:ext cx="8010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73680" y="1568520"/>
            <a:ext cx="13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00 S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26840" y="911160"/>
            <a:ext cx="55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00 Buyers &amp; 200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81600" y="56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25520" y="3755880"/>
            <a:ext cx="28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69320" y="505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66080" y="2309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41600" y="3246480"/>
            <a:ext cx="4059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4884840" y="2334960"/>
            <a:ext cx="266760" cy="1374840"/>
          </a:xfrm>
          <a:custGeom>
            <a:avLst/>
            <a:gdLst>
              <a:gd name="textAreaLeft" fmla="*/ 0 w 266760"/>
              <a:gd name="textAreaRight" fmla="*/ 96120 w 266760"/>
              <a:gd name="textAreaTop" fmla="*/ 35640 h 1374840"/>
              <a:gd name="textAreaBottom" fmla="*/ 1339200 h 13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29200" y="29019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$4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34320" y="2266920"/>
            <a:ext cx="157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,000 Bus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r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41600" y="4494240"/>
            <a:ext cx="4059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19480" y="41688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$2 Price 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5011560" y="3835800"/>
            <a:ext cx="266760" cy="1590480"/>
          </a:xfrm>
          <a:custGeom>
            <a:avLst/>
            <a:gdLst>
              <a:gd name="textAreaLeft" fmla="*/ 0 w 266760"/>
              <a:gd name="textAreaRight" fmla="*/ 96120 w 26676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58160" y="4829040"/>
            <a:ext cx="157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7,000 Bus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h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Demand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Supply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Changes in Equilibrium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Efficient Allocation</a:t>
            </a:r>
            <a:endParaRPr b="1" lang="en-US" sz="48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Productive Efficienc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Allocative Efficiency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695240" y="1066320"/>
            <a:ext cx="5554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Increase; Demand De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Decrease; Demand In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Increase; Demand In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upply Decrease; Demand Decrease</a:t>
            </a:r>
            <a:endParaRPr b="1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17840" y="8571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702200" y="85716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88120" y="1440000"/>
            <a:ext cx="463680" cy="596880"/>
          </a:xfrm>
          <a:prstGeom prst="downArrow">
            <a:avLst>
              <a:gd name="adj1" fmla="val 50000"/>
              <a:gd name="adj2" fmla="val 32182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33400" y="13255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188120" y="2982960"/>
            <a:ext cx="463680" cy="596880"/>
          </a:xfrm>
          <a:prstGeom prst="downArrow">
            <a:avLst>
              <a:gd name="adj1" fmla="val 50000"/>
              <a:gd name="adj2" fmla="val 32182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033400" y="28684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42760" y="4249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42760" y="56116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8077320" y="4363920"/>
            <a:ext cx="463320" cy="596880"/>
          </a:xfrm>
          <a:prstGeom prst="downArrow">
            <a:avLst>
              <a:gd name="adj1" fmla="val 50000"/>
              <a:gd name="adj2" fmla="val 32207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5726160"/>
            <a:ext cx="463320" cy="596880"/>
          </a:xfrm>
          <a:prstGeom prst="downArrow">
            <a:avLst>
              <a:gd name="adj1" fmla="val 50000"/>
              <a:gd name="adj2" fmla="val 32207"/>
            </a:avLst>
          </a:prstGeom>
          <a:gradFill rotWithShape="0">
            <a:gsLst>
              <a:gs pos="0">
                <a:srgbClr val="46001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2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2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8" dur="2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overnment-Set Pr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04960" y="990720"/>
            <a:ext cx="704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rice Ceilings on Gasoline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Rationing Problem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Black Market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Rent Control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Price Floors on Wheat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Optimal Allocation of Resources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199360" y="5640480"/>
            <a:ext cx="436680" cy="729000"/>
            <a:chOff x="8199360" y="5640480"/>
            <a:chExt cx="436680" cy="729000"/>
          </a:xfrm>
        </p:grpSpPr>
        <p:sp>
          <p:nvSpPr>
            <p:cNvPr id="481" name=""/>
            <p:cNvSpPr/>
            <p:nvPr/>
          </p:nvSpPr>
          <p:spPr>
            <a:xfrm>
              <a:off x="8202960" y="60624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8199360" y="5640480"/>
              <a:ext cx="43668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1080" y="38703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3941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98880"/>
            <a:ext cx="117180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541332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36564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68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87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3517920" y="1827360"/>
            <a:ext cx="4641120" cy="4413960"/>
            <a:chOff x="3517920" y="1827360"/>
            <a:chExt cx="4641120" cy="4413960"/>
          </a:xfrm>
        </p:grpSpPr>
        <p:sp>
          <p:nvSpPr>
            <p:cNvPr id="90" name=""/>
            <p:cNvSpPr/>
            <p:nvPr/>
          </p:nvSpPr>
          <p:spPr>
            <a:xfrm>
              <a:off x="3678480" y="1827360"/>
              <a:ext cx="38016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18200" y="5722920"/>
              <a:ext cx="367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    20     30     40     50     60     70     80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88240" y="5904000"/>
              <a:ext cx="397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Demanded (bushels per wee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2740320" y="3534480"/>
              <a:ext cx="189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(per bush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96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88160" y="5054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444320"/>
            <a:ext cx="7086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ast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umber of Buyer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com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ormal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ferior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ce of Related Good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bstitute Goo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plementary Good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2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related Good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nsumer Expecta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26360" y="82224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Determinants of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116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135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88240" y="59040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Demand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142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13320" y="263052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11520" y="2630520"/>
            <a:ext cx="31766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83120" y="2928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29240" y="408780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041800" y="3544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592320" y="4641840"/>
            <a:ext cx="21564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4280" y="5054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113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45360" y="98280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Demand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17240" y="294624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In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35320" y="50911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2880" y="4492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0320" y="5264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3921E-007 L 0.04878 -0.03285 E">
                                      <p:cBhvr>
                                        <p:cTn id="23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3921E-007 L -0.04202 0.04372 E">
                                      <p:cBhvr>
                                        <p:cTn id="25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Deman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038480" y="2033640"/>
            <a:ext cx="4123800" cy="3709800"/>
            <a:chOff x="4038480" y="2033640"/>
            <a:chExt cx="4123800" cy="3709800"/>
          </a:xfrm>
        </p:grpSpPr>
        <p:grpSp>
          <p:nvGrpSpPr>
            <p:cNvPr id="171" name=""/>
            <p:cNvGrpSpPr/>
            <p:nvPr/>
          </p:nvGrpSpPr>
          <p:grpSpPr>
            <a:xfrm>
              <a:off x="4043880" y="2047320"/>
              <a:ext cx="4118400" cy="3684240"/>
              <a:chOff x="4043880" y="2047320"/>
              <a:chExt cx="4118400" cy="36842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043880" y="2047320"/>
                <a:ext cx="4118400" cy="3060360"/>
                <a:chOff x="4043880" y="2047320"/>
                <a:chExt cx="4118400" cy="30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58640" y="2047320"/>
                  <a:ext cx="41036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55760" y="26456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52880" y="326124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49640" y="38764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46760" y="44920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43880" y="5107680"/>
                  <a:ext cx="41040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496040" y="2048400"/>
                <a:ext cx="3653280" cy="3683160"/>
                <a:chOff x="4496040" y="2048400"/>
                <a:chExt cx="3653280" cy="36831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49604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9489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4147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8665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3183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7016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2288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14932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680600" y="204840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038480" y="2033640"/>
              <a:ext cx="4120200" cy="3709800"/>
              <a:chOff x="4038480" y="2033640"/>
              <a:chExt cx="4120200" cy="3709800"/>
            </a:xfrm>
          </p:grpSpPr>
          <p:sp>
            <p:nvSpPr>
              <p:cNvPr id="190" name=""/>
              <p:cNvSpPr/>
              <p:nvPr/>
            </p:nvSpPr>
            <p:spPr>
              <a:xfrm>
                <a:off x="404712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5726520"/>
                <a:ext cx="412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88240" y="59040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Demand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13320" y="263988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197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8520" y="29624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22720" y="2925720"/>
            <a:ext cx="317484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0000" y="2401920"/>
            <a:ext cx="3176280" cy="2455920"/>
          </a:xfrm>
          <a:custGeom>
            <a:avLst/>
            <a:gdLst/>
            <a:ahLst/>
            <a:rect l="l" t="t" r="r" b="b"/>
            <a:pathLst>
              <a:path w="2000" h="1547">
                <a:moveTo>
                  <a:pt x="0" y="0"/>
                </a:moveTo>
                <a:cubicBezTo>
                  <a:pt x="79" y="127"/>
                  <a:pt x="158" y="254"/>
                  <a:pt x="278" y="382"/>
                </a:cubicBezTo>
                <a:cubicBezTo>
                  <a:pt x="398" y="510"/>
                  <a:pt x="550" y="640"/>
                  <a:pt x="718" y="770"/>
                </a:cubicBezTo>
                <a:cubicBezTo>
                  <a:pt x="886" y="900"/>
                  <a:pt x="1074" y="1036"/>
                  <a:pt x="1288" y="1165"/>
                </a:cubicBezTo>
                <a:cubicBezTo>
                  <a:pt x="1502" y="1294"/>
                  <a:pt x="1751" y="1420"/>
                  <a:pt x="2000" y="1547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5574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61080" y="31622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8560" y="378792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40064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4560" y="502128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83120" y="2928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29240" y="408780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41800" y="3544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592320" y="4641840"/>
            <a:ext cx="21564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20880" y="5638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94280" y="5054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11360" y="5708520"/>
            <a:ext cx="396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       4       6       8     10    12     14    16    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45360" y="98280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Demand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35320" y="50911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crease i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22880" y="4492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70320" y="5264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04640" y="1460520"/>
            <a:ext cx="299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n Increase 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eans 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37360" y="2502000"/>
            <a:ext cx="27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 Movement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ny Two Points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mand Curve is Called a Change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ema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67400" y="2386080"/>
            <a:ext cx="1071360" cy="45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229360" y="2400480"/>
            <a:ext cx="503280" cy="38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033880" y="3236760"/>
            <a:ext cx="1473120" cy="20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729400" y="3436920"/>
            <a:ext cx="77760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81080" y="38703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39416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898880"/>
            <a:ext cx="117180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41332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3365640"/>
            <a:ext cx="1171800" cy="39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235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67160" y="2639880"/>
            <a:ext cx="322596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261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6160" y="502272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7920" y="572292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       20        30        40        50        60        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52120" y="1444320"/>
            <a:ext cx="7086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Resource Price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Technology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Taxes and Subsidie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Prices of Other Good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Producer Expectation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Number of Sellers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27800" y="82224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Determinant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281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299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4376880" y="2639880"/>
            <a:ext cx="322560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83160" y="2671920"/>
            <a:ext cx="3019320" cy="2286000"/>
          </a:xfrm>
          <a:custGeom>
            <a:avLst/>
            <a:gdLst/>
            <a:ahLst/>
            <a:rect l="l" t="t" r="r" b="b"/>
            <a:pathLst>
              <a:path w="1902" h="1440">
                <a:moveTo>
                  <a:pt x="0" y="1440"/>
                </a:moveTo>
                <a:cubicBezTo>
                  <a:pt x="67" y="1390"/>
                  <a:pt x="290" y="1218"/>
                  <a:pt x="401" y="1139"/>
                </a:cubicBezTo>
                <a:cubicBezTo>
                  <a:pt x="512" y="1060"/>
                  <a:pt x="560" y="1035"/>
                  <a:pt x="666" y="964"/>
                </a:cubicBezTo>
                <a:cubicBezTo>
                  <a:pt x="772" y="893"/>
                  <a:pt x="889" y="813"/>
                  <a:pt x="1035" y="712"/>
                </a:cubicBezTo>
                <a:cubicBezTo>
                  <a:pt x="1181" y="611"/>
                  <a:pt x="1395" y="475"/>
                  <a:pt x="1540" y="356"/>
                </a:cubicBezTo>
                <a:cubicBezTo>
                  <a:pt x="1685" y="237"/>
                  <a:pt x="1827" y="74"/>
                  <a:pt x="190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308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45000" y="9828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Supply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33760" y="2654280"/>
            <a:ext cx="3164040" cy="241452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2"/>
                  <a:pt x="537" y="1159"/>
                </a:cubicBezTo>
                <a:cubicBezTo>
                  <a:pt x="723" y="1026"/>
                  <a:pt x="933" y="886"/>
                  <a:pt x="1119" y="758"/>
                </a:cubicBezTo>
                <a:cubicBezTo>
                  <a:pt x="1305" y="630"/>
                  <a:pt x="1504" y="515"/>
                  <a:pt x="1656" y="389"/>
                </a:cubicBezTo>
                <a:cubicBezTo>
                  <a:pt x="1808" y="263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76800" y="502272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18080" y="2627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7200" y="2036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46880" y="3090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30840" y="42400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346800" y="31654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681440" y="4282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70480" y="572292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       4          6          8         10        12       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162 L 0.07119 0.03493 E">
                                      <p:cBhvr>
                                        <p:cTn id="48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8545E-006 L -0.05225 -0.04765 E">
                                      <p:cBhvr>
                                        <p:cTn id="49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4038480" y="2033640"/>
            <a:ext cx="4746240" cy="3709800"/>
            <a:chOff x="4038480" y="2033640"/>
            <a:chExt cx="4746240" cy="3709800"/>
          </a:xfrm>
        </p:grpSpPr>
        <p:grpSp>
          <p:nvGrpSpPr>
            <p:cNvPr id="333" name=""/>
            <p:cNvGrpSpPr/>
            <p:nvPr/>
          </p:nvGrpSpPr>
          <p:grpSpPr>
            <a:xfrm>
              <a:off x="4046400" y="2048040"/>
              <a:ext cx="4725360" cy="3684600"/>
              <a:chOff x="4046400" y="2048040"/>
              <a:chExt cx="4725360" cy="36846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046400" y="2048040"/>
                <a:ext cx="4725360" cy="3060360"/>
                <a:chOff x="4046400" y="2048040"/>
                <a:chExt cx="4725360" cy="30603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063320" y="2048040"/>
                  <a:ext cx="47084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060080" y="26463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056480" y="326196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053240" y="38772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49640" y="44928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046400" y="5108400"/>
                  <a:ext cx="470880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632840" y="2049480"/>
                <a:ext cx="4128480" cy="3683160"/>
                <a:chOff x="4632840" y="2049480"/>
                <a:chExt cx="4128480" cy="3683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63284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92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8240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087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99516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57980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17488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761320" y="2049480"/>
                  <a:ext cx="0" cy="368316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4038480" y="2033640"/>
              <a:ext cx="4746240" cy="3709800"/>
              <a:chOff x="4038480" y="2033640"/>
              <a:chExt cx="4746240" cy="3709800"/>
            </a:xfrm>
          </p:grpSpPr>
          <p:sp>
            <p:nvSpPr>
              <p:cNvPr id="351" name=""/>
              <p:cNvSpPr/>
              <p:nvPr/>
            </p:nvSpPr>
            <p:spPr>
              <a:xfrm>
                <a:off x="4048200" y="2033640"/>
                <a:ext cx="0" cy="37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38480" y="5726520"/>
                <a:ext cx="474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5024520" y="2878200"/>
            <a:ext cx="3225600" cy="246708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1"/>
                  <a:pt x="537" y="1159"/>
                </a:cubicBezTo>
                <a:cubicBezTo>
                  <a:pt x="723" y="1027"/>
                  <a:pt x="933" y="892"/>
                  <a:pt x="1119" y="764"/>
                </a:cubicBezTo>
                <a:cubicBezTo>
                  <a:pt x="1305" y="636"/>
                  <a:pt x="1504" y="516"/>
                  <a:pt x="1656" y="389"/>
                </a:cubicBezTo>
                <a:cubicBezTo>
                  <a:pt x="1808" y="262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97160" y="2347920"/>
            <a:ext cx="3019680" cy="2286000"/>
          </a:xfrm>
          <a:custGeom>
            <a:avLst/>
            <a:gdLst/>
            <a:ahLst/>
            <a:rect l="l" t="t" r="r" b="b"/>
            <a:pathLst>
              <a:path w="1902" h="1440">
                <a:moveTo>
                  <a:pt x="0" y="1440"/>
                </a:moveTo>
                <a:cubicBezTo>
                  <a:pt x="67" y="1390"/>
                  <a:pt x="290" y="1218"/>
                  <a:pt x="401" y="1139"/>
                </a:cubicBezTo>
                <a:cubicBezTo>
                  <a:pt x="512" y="1060"/>
                  <a:pt x="560" y="1035"/>
                  <a:pt x="666" y="964"/>
                </a:cubicBezTo>
                <a:cubicBezTo>
                  <a:pt x="772" y="893"/>
                  <a:pt x="889" y="813"/>
                  <a:pt x="1035" y="712"/>
                </a:cubicBezTo>
                <a:cubicBezTo>
                  <a:pt x="1181" y="611"/>
                  <a:pt x="1395" y="475"/>
                  <a:pt x="1540" y="356"/>
                </a:cubicBezTo>
                <a:cubicBezTo>
                  <a:pt x="1685" y="237"/>
                  <a:pt x="1827" y="74"/>
                  <a:pt x="1902" y="0"/>
                </a:cubicBezTo>
              </a:path>
            </a:pathLst>
          </a:cu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52120" y="763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dividual Suppl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78480" y="1827360"/>
            <a:ext cx="380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59760" y="590400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Supplied (bushels per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2740320" y="3534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(per bush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073240" y="3049560"/>
            <a:ext cx="1006560" cy="2732040"/>
            <a:chOff x="2073240" y="3049560"/>
            <a:chExt cx="1006560" cy="2732040"/>
          </a:xfrm>
        </p:grpSpPr>
        <p:sp>
          <p:nvSpPr>
            <p:cNvPr id="360" name=""/>
            <p:cNvSpPr/>
            <p:nvPr/>
          </p:nvSpPr>
          <p:spPr>
            <a:xfrm>
              <a:off x="2073240" y="334980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76520" y="3049560"/>
              <a:ext cx="0" cy="273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57840" y="2962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47440" y="29624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2680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98480" y="3176640"/>
            <a:ext cx="4640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0920" y="2133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8680" y="1744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49640" y="56865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03480" y="22939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45000" y="9828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Supply Can Increase o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33760" y="2654280"/>
            <a:ext cx="3164040" cy="2414520"/>
          </a:xfrm>
          <a:custGeom>
            <a:avLst/>
            <a:gdLst/>
            <a:ahLst/>
            <a:rect l="l" t="t" r="r" b="b"/>
            <a:pathLst>
              <a:path w="2032" h="1554">
                <a:moveTo>
                  <a:pt x="0" y="1554"/>
                </a:moveTo>
                <a:cubicBezTo>
                  <a:pt x="175" y="1422"/>
                  <a:pt x="351" y="1292"/>
                  <a:pt x="537" y="1159"/>
                </a:cubicBezTo>
                <a:cubicBezTo>
                  <a:pt x="723" y="1026"/>
                  <a:pt x="933" y="886"/>
                  <a:pt x="1119" y="758"/>
                </a:cubicBezTo>
                <a:cubicBezTo>
                  <a:pt x="1305" y="630"/>
                  <a:pt x="1504" y="515"/>
                  <a:pt x="1656" y="389"/>
                </a:cubicBezTo>
                <a:cubicBezTo>
                  <a:pt x="1808" y="263"/>
                  <a:pt x="1920" y="131"/>
                  <a:pt x="2032" y="0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10320" y="256860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76800" y="502272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37200" y="4395960"/>
            <a:ext cx="164880" cy="16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15240" y="3174840"/>
            <a:ext cx="16488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40440" y="3794040"/>
            <a:ext cx="165240" cy="16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18080" y="2627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7200" y="2036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46880" y="309096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30840" y="42400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46800" y="316548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681440" y="4282920"/>
            <a:ext cx="216000" cy="298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29480" y="4718160"/>
            <a:ext cx="28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An Increase in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Means 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13200" y="1682640"/>
            <a:ext cx="28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 Movement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Any Two Points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upply Curve is Called a Change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u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7089480" y="3903840"/>
            <a:ext cx="307800" cy="76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441840" y="3728520"/>
            <a:ext cx="944280" cy="92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73720" y="3122640"/>
            <a:ext cx="6778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229000" y="3112920"/>
            <a:ext cx="144360" cy="128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70480" y="572292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       4          6          8         10        12       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07:32Z</dcterms:created>
  <dc:creator>C. Norman Hollingsworth</dc:creator>
  <dc:description/>
  <dc:language>en-US</dc:language>
  <cp:lastModifiedBy>Tasawar</cp:lastModifiedBy>
  <dcterms:modified xsi:type="dcterms:W3CDTF">2008-10-30T03:54:10Z</dcterms:modified>
  <cp:revision>136</cp:revision>
  <dc:subject>McConnell-Brue Economics</dc:subject>
  <dc:title>Chapter 3</dc:title>
</cp:coreProperties>
</file>